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4A1-D34E-444F-BFE7-0B25A247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AE5-5F18-42A8-8EF9-7676542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E61-60A4-4B33-B643-18AEB0FB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A7A-1BA8-4CA6-8416-3985A079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414-2D39-423C-AF91-7297FF0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845-5C61-4F20-8C82-2E0B1547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76E-1A00-41EC-B2F3-87E89FB0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34F-2A6D-4150-A70E-90FE81B5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E37-6D7C-47A0-B2F9-AE347DC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7F6-A9D1-4046-9F95-5A091D7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E55-EA08-49AF-A5A6-87DB458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BC9-EB4A-4FE7-AB99-61B38A7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212-9276-4F38-9AC1-E8D87E9D2E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Maker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＠レ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280" y="3886200"/>
            <a:ext cx="276876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 1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株式会社　インターメディア・プランニン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734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平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会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73408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画面で、会員ボタンを押すと、会員コードを問うメッセージが出て来、存在する会員コードを入力すると、画面上に、会員名が表示されるよう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不使用時は、一般と表示され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67280" y="765000"/>
            <a:ext cx="361944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24000" y="5229360"/>
            <a:ext cx="7189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商品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805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トップ画面の商品情報ボタンを押すと、左画面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左画面で商品をクリック・タップすると、右の詳細画面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5654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511440" cy="468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部門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3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登録されている部門を一覧で表示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40856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会員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661000"/>
            <a:ext cx="8713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情報ボタンを押すと、まず、五十音別の会員数が表示さ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れで、目的の五十音を選択すると、頭文字に選択した五十音列がカナ登録された会員を表示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349360"/>
            <a:ext cx="2376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50920" y="2060640"/>
            <a:ext cx="3168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565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行を選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781440" cy="50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会員情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99736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の一覧画面で、会員を選んでタップすると、この画面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画面に収まりきれなかったので、分け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画像は、下にスライドした画面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51280" y="256536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履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20500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34936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取引履歴画面で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ある、取引の履歴を日付毎にまとめて表示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目的の日付をクリック・タップすると、その日付の取引が一覧で表示さ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0" y="1700280"/>
            <a:ext cx="3492360" cy="433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履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971640" y="2637000"/>
            <a:ext cx="720720" cy="86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3024360" cy="40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76720" y="2349360"/>
            <a:ext cx="36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した日付で、目的の取引をタップすると、取引の詳細が表示さ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際、明細ボタンを押すと、その取引でどの商品を売却したか、一覧で見ること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3357720"/>
            <a:ext cx="309564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履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771720" cy="502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572000" y="2276640"/>
            <a:ext cx="37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取引履歴で、入金、出金の処理を選択すると、この画面へ移動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会員を選んでいると、会員の欄に会員名が表示され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点検・精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989000"/>
            <a:ext cx="3816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精算画面で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のデータの取引件数、売上の合計金額を表示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、精算の処理を行う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データを送るように作成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データ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取引履歴の画面にある、取り込みボタンから取り込めるように作成してあ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0664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29070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設定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2997360"/>
            <a:ext cx="36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 G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接続する際に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ドレスの指定が必要に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で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ドレスを指定しておけば、そのアドレスの使用され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接続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67440" cy="56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94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トップ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404640"/>
            <a:ext cx="3671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てすぐに表示される画面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ボタンで、販売画面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商品情報ボタンで、マスタに登録された商品の確認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部門情報ボタンで、マスタに登録された部門の確認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情報ボタンで、マスタに登録された会員の確認へ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取引履歴ボタンで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入っている、取引の履歴が閲覧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点検、精算ボタンを押す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のデータの件数、合計金額を計算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精算の処理はまだ作成していませ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設定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 G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連携に使用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05108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508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、商品、部門の情報画面では、検索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762280" cy="36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700360" y="1413000"/>
            <a:ext cx="2872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1413000"/>
            <a:ext cx="36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8360" y="1484280"/>
            <a:ext cx="28728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206064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員、商品、部門の情報画面で検索ボタンを押すと、この画面に変わ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ヘッダの文字は、それぞれ変わ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上のドロップダウンリストで、コード検索か、名称検索か、カナ検索か選択し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テキストボックスで検索したい文字列を指定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051080" cy="54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マスタ更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508464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更新ボタンを押すと、マスタの更新を行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は、事務次官から出力されたファイルからデータを更新し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上にあ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マスタで、データを書き換え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5580000" y="1484280"/>
            <a:ext cx="43200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75640" y="1484280"/>
            <a:ext cx="28908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275436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700360" y="1413000"/>
            <a:ext cx="35892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3429000"/>
            <a:ext cx="17287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販売業務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284720" y="2133360"/>
            <a:ext cx="215892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84720" y="3645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440" y="5746680"/>
            <a:ext cx="8351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画面で商品を入力後、その商品をクリック・タップすると、右上の商品明細画面に切り替わり、数量・単価の変更等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商品明細画面の商品情報ボタンを押すと、商品の詳しい情報が見れ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900000" y="2133720"/>
            <a:ext cx="3311640" cy="358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43640" y="1197000"/>
            <a:ext cx="216072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300720" y="3429000"/>
            <a:ext cx="244800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数量・単価変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297180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297180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68360" y="544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レジの商品詳細画面の数量、単価の欄をタップすると、変更の画面に移動し、そこで数量、単価を変更することが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0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値割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07980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307980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68360" y="5373720"/>
            <a:ext cx="82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レジの商品詳細の値割引の欄をタップすると、変更の画面へ移動します。そこで、値引き、割引を設定でき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値引き、割引のボタンの、青くなっているほうが選択されてい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値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924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割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販売業務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243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248436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724360" y="501336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部門を選択すると、その部門で登録された商品の一覧を表示します。これで商品を選択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続入力が可能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 flipH="1" flipV="1" rot="10800000">
            <a:off x="1476000" y="4365360"/>
            <a:ext cx="1080360" cy="611640"/>
          </a:xfrm>
          <a:prstGeom prst="bentConnector3">
            <a:avLst>
              <a:gd name="adj1" fmla="val -14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0" y="465300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れを押すと、右図の部門一覧が開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4076640"/>
            <a:ext cx="505080" cy="2890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573360"/>
            <a:ext cx="3240000" cy="216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3025800" cy="40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771640" y="6093000"/>
            <a:ext cx="280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437000"/>
            <a:ext cx="32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363640" y="2707920"/>
            <a:ext cx="360360" cy="18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364000" y="2708280"/>
            <a:ext cx="144720" cy="33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213372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現在注文している個数、金額を表示していま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現計画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365720"/>
            <a:ext cx="42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販売業務画面下の、会計ボタンを押すと、現計の画面へと移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計ボタンを押すと、取引は終了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預かり金は、入力せずに現計を行うと、合計金額を、そのまま預かり金として書き込み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7636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050920" y="3860640"/>
            <a:ext cx="79236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13080" cy="56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取引終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86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24000" y="53737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計ボタンを押すと、右画像の画面になり、取引は終了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完了ボタンを押すと、販売業務の画面へ戻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49720"/>
            <a:ext cx="3635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40380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入出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0859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43640" y="3932280"/>
            <a:ext cx="219384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635280" y="620640"/>
            <a:ext cx="219420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443640" y="620640"/>
            <a:ext cx="219384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124000" y="4724280"/>
            <a:ext cx="64764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1773360"/>
            <a:ext cx="288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1773360"/>
            <a:ext cx="2890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3573360"/>
            <a:ext cx="576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93372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オプションボタンを押して、入出金の処理も行うことができ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画像は入金の画面にしていますが、画面、処理は出金もほとんど同じで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1052640"/>
            <a:ext cx="237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入金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出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00:05:43Z</dcterms:created>
  <dc:creator>acer01</dc:creator>
  <dc:description/>
  <dc:language>en-US</dc:language>
  <cp:lastModifiedBy>acer01</cp:lastModifiedBy>
  <dcterms:modified xsi:type="dcterms:W3CDTF">2012-04-26T01:10:07Z</dcterms:modified>
  <cp:revision>4</cp:revision>
  <dc:subject/>
  <dc:title>PowerPoint Presentation</dc:title>
</cp:coreProperties>
</file>